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5.png" ContentType="image/png"/>
  <Override PartName="/ppt/media/image2.gif" ContentType="image/gif"/>
  <Override PartName="/ppt/media/image42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6.gif" ContentType="image/gif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9.gif" ContentType="image/gif"/>
  <Override PartName="/ppt/media/image15.png" ContentType="image/png"/>
  <Override PartName="/ppt/media/image18.jpeg" ContentType="image/jpeg"/>
  <Override PartName="/ppt/media/image14.png" ContentType="image/png"/>
  <Override PartName="/ppt/media/image11.png" ContentType="image/png"/>
  <Override PartName="/ppt/media/image3.gif" ContentType="image/gif"/>
  <Override PartName="/ppt/media/image45.jpeg" ContentType="image/jpeg"/>
  <Override PartName="/ppt/media/image41.jpeg" ContentType="image/jpeg"/>
  <Override PartName="/ppt/media/image54.png" ContentType="image/png"/>
  <Override PartName="/ppt/media/image46.jpeg" ContentType="image/jpeg"/>
  <Override PartName="/ppt/media/image39.png" ContentType="image/pn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31.jpeg" ContentType="image/jpeg"/>
  <Override PartName="/ppt/media/image32.jpeg" ContentType="image/jpeg"/>
  <Override PartName="/ppt/media/image26.jpeg" ContentType="image/jpeg"/>
  <Override PartName="/ppt/media/image49.jpeg" ContentType="image/jpeg"/>
  <Override PartName="/ppt/media/image30.png" ContentType="image/png"/>
  <Override PartName="/ppt/media/image1.jpeg" ContentType="image/jpeg"/>
  <Override PartName="/ppt/media/image47.png" ContentType="image/png"/>
  <Override PartName="/ppt/media/image35.jpeg" ContentType="image/jpeg"/>
  <Override PartName="/ppt/media/image40.jpeg" ContentType="image/jpeg"/>
  <Override PartName="/ppt/media/image13.jpeg" ContentType="image/jpeg"/>
  <Override PartName="/ppt/media/image8.gif" ContentType="image/gif"/>
  <Override PartName="/ppt/media/image7.gif" ContentType="image/gif"/>
  <Override PartName="/ppt/media/image52.jpeg" ContentType="image/jpeg"/>
  <Override PartName="/ppt/media/image38.jpeg" ContentType="image/jpeg"/>
  <Override PartName="/ppt/media/image5.gif" ContentType="image/gif"/>
  <Override PartName="/ppt/media/image53.jpeg" ContentType="image/jpeg"/>
  <Override PartName="/ppt/media/image10.gif" ContentType="image/gif"/>
  <Override PartName="/ppt/media/image12.jpeg" ContentType="image/jpeg"/>
  <Override PartName="/ppt/media/image33.jpeg" ContentType="image/jpeg"/>
  <Override PartName="/ppt/media/image4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F4B8-422B-492D-B2CF-367C0D4A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669-41D0-4DD9-8179-3FF1637A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6498-6FD4-48E4-9D92-75CAF328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172F-9E65-4A7D-95F6-CE434128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F91B-B63D-43C2-B6F0-5A36076D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1583-4800-4F38-B813-3D435ACB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1FD1-7A40-4D76-A3C9-AAA5F596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8673-B9F0-4C23-A412-47B36888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917F-FFA5-4840-9620-646BBE1A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D248-E232-47E7-862E-086943F7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5894-4CFD-4A1B-97C3-F21EF333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363F-1D0F-4452-9244-F87C12E2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3455-EF99-431F-9A33-9397C115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5F21-6A9C-4D6A-9D89-D2151681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0BE2-6AD9-43D4-B41A-0217F1D9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C5B3-3659-4913-B42A-DB524C20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A24D-79CD-46E0-ADBB-688AF8C7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4D13E-CD4F-42A7-B4AD-5133F8D5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38BF2-ED53-4A4C-8156-CD02FBD0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8F420-FEA5-4852-A5BE-EEF01F4C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D004E-288D-498F-AB6A-C6087D8D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28A8D-51C1-4699-AE16-271F99F9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6F2B-5E6C-40A2-9094-F33281C6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062A7-D50F-404D-8A33-74716BD0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BEC91-7A9D-478F-B144-51220F36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34711-0451-4ECE-A248-D37A11A6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EA6B8-F0AE-442E-97A4-5412B5A6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E429E-CBD1-4113-B077-67D12C5B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21689-5FFE-4853-B172-ADFABE77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D4CCA-22A7-4523-B274-28073BEF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6264-2288-4D9E-AA5E-570C14B6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8572-E736-425A-9488-ED1DEE75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50A9-1AF1-4C0E-81F4-50AA31E2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B86-E60B-496F-B543-20FFBAAB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827C-FD2D-4FB5-BE08-87814765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051D-B129-4ABE-AC9A-3995F915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3.gif"/><Relationship Id="rId8" Type="http://schemas.openxmlformats.org/officeDocument/2006/relationships/image" Target="../media/image6.gif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image" Target="../media/image10.gif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16" descr="12.gif"/>
          <p:cNvPicPr/>
          <p:nvPr/>
        </p:nvPicPr>
        <p:blipFill>
          <a:blip r:embed="rId3"/>
          <a:stretch/>
        </p:blipFill>
        <p:spPr>
          <a:xfrm>
            <a:off x="7000920" y="571680"/>
            <a:ext cx="1452600" cy="141732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14" descr="01.gif"/>
          <p:cNvPicPr/>
          <p:nvPr/>
        </p:nvPicPr>
        <p:blipFill>
          <a:blip r:embed="rId4"/>
          <a:stretch/>
        </p:blipFill>
        <p:spPr>
          <a:xfrm>
            <a:off x="5857920" y="10717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2" name="Рисунок 13" descr="r.gif"/>
          <p:cNvPicPr/>
          <p:nvPr/>
        </p:nvPicPr>
        <p:blipFill>
          <a:blip r:embed="rId5"/>
          <a:stretch/>
        </p:blipFill>
        <p:spPr>
          <a:xfrm>
            <a:off x="5500800" y="1071720"/>
            <a:ext cx="428400" cy="428400"/>
          </a:xfrm>
          <a:prstGeom prst="rect">
            <a:avLst/>
          </a:prstGeom>
          <a:ln w="0">
            <a:noFill/>
          </a:ln>
        </p:spPr>
      </p:pic>
      <p:pic>
        <p:nvPicPr>
          <p:cNvPr id="3" name="Рисунок 12" descr="03.gif"/>
          <p:cNvPicPr/>
          <p:nvPr/>
        </p:nvPicPr>
        <p:blipFill>
          <a:blip r:embed="rId6"/>
          <a:stretch/>
        </p:blipFill>
        <p:spPr>
          <a:xfrm>
            <a:off x="5072040" y="10717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4" name="Рисунок 11" descr="01.gif"/>
          <p:cNvPicPr/>
          <p:nvPr/>
        </p:nvPicPr>
        <p:blipFill>
          <a:blip r:embed="rId7"/>
          <a:stretch/>
        </p:blipFill>
        <p:spPr>
          <a:xfrm>
            <a:off x="4643280" y="10717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5" name="Рисунок 10" descr="t.gif"/>
          <p:cNvPicPr/>
          <p:nvPr/>
        </p:nvPicPr>
        <p:blipFill>
          <a:blip r:embed="rId8"/>
          <a:stretch/>
        </p:blipFill>
        <p:spPr>
          <a:xfrm>
            <a:off x="4286160" y="10717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9" descr="n.gif"/>
          <p:cNvPicPr/>
          <p:nvPr/>
        </p:nvPicPr>
        <p:blipFill>
          <a:blip r:embed="rId9"/>
          <a:stretch/>
        </p:blipFill>
        <p:spPr>
          <a:xfrm>
            <a:off x="3786120" y="10717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8" descr="e.gif"/>
          <p:cNvPicPr/>
          <p:nvPr/>
        </p:nvPicPr>
        <p:blipFill>
          <a:blip r:embed="rId10"/>
          <a:stretch/>
        </p:blipFill>
        <p:spPr>
          <a:xfrm>
            <a:off x="3286080" y="10717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7" descr="04.gif"/>
          <p:cNvPicPr/>
          <p:nvPr/>
        </p:nvPicPr>
        <p:blipFill>
          <a:blip r:embed="rId11"/>
          <a:stretch/>
        </p:blipFill>
        <p:spPr>
          <a:xfrm>
            <a:off x="2857680" y="1071720"/>
            <a:ext cx="428400" cy="42840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6" descr="1.gif"/>
          <p:cNvPicPr/>
          <p:nvPr/>
        </p:nvPicPr>
        <p:blipFill>
          <a:blip r:embed="rId12"/>
          <a:stretch/>
        </p:blipFill>
        <p:spPr>
          <a:xfrm>
            <a:off x="1928880" y="64296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F1CD-4FB6-430C-B88D-D1735A16D4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5" descr="12.gif"/>
          <p:cNvPicPr/>
          <p:nvPr/>
        </p:nvPicPr>
        <p:blipFill>
          <a:blip r:embed="rId3"/>
          <a:stretch/>
        </p:blipFill>
        <p:spPr>
          <a:xfrm>
            <a:off x="7786800" y="571680"/>
            <a:ext cx="809640" cy="790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08B9-613B-43E2-9041-1DBA0107FC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F8A9-107C-46DF-8CD3-9BFA719E74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13day.ucoz.ru/_ph/5/2/443202816.jpg" TargetMode="External"/><Relationship Id="rId3" Type="http://schemas.openxmlformats.org/officeDocument/2006/relationships/hyperlink" Target="http://retropost.ru/i/1september/190hbi.jpg" TargetMode="External"/><Relationship Id="rId4" Type="http://schemas.openxmlformats.org/officeDocument/2006/relationships/hyperlink" Target="http://web-drawing.ru/uploads/posts/2008-12/1228213858_00.jpg" TargetMode="External"/><Relationship Id="rId5" Type="http://schemas.openxmlformats.org/officeDocument/2006/relationships/hyperlink" Target="http://interoffice.com.ua/download.php?id=3893" TargetMode="External"/><Relationship Id="rId6" Type="http://schemas.openxmlformats.org/officeDocument/2006/relationships/hyperlink" Target="http://ai-cdr.ucoz.ru/kartinki_2/shkolportfel.gif" TargetMode="External"/><Relationship Id="rId7" Type="http://schemas.openxmlformats.org/officeDocument/2006/relationships/hyperlink" Target="http://img.samsonopt.ru/x/102257_x.png" TargetMode="External"/><Relationship Id="rId8" Type="http://schemas.openxmlformats.org/officeDocument/2006/relationships/hyperlink" Target="http://viki.rdf.ru/media/upload/preview/poem_glasnie.jpg" TargetMode="External"/><Relationship Id="rId9" Type="http://schemas.openxmlformats.org/officeDocument/2006/relationships/hyperlink" Target="http://www.famtoys.ru/files/goods/109661.jpg" TargetMode="External"/><Relationship Id="rId10" Type="http://schemas.openxmlformats.org/officeDocument/2006/relationships/hyperlink" Target="http://upload.wikimedia.org/wikipedia/commons/thumb/9/91/Passer_domesticus_m.jpg/800px-Passer_domesticus_m.jpg" TargetMode="External"/><Relationship Id="rId11" Type="http://schemas.openxmlformats.org/officeDocument/2006/relationships/hyperlink" Target="http://flamber.ru/files/photos/1143131871/1143132258_f.jpg" TargetMode="External"/><Relationship Id="rId12" Type="http://schemas.openxmlformats.org/officeDocument/2006/relationships/hyperlink" Target="http://upload.wikimedia.org/wikipedia/commons/thumb/0/0f/Red-rumpedSwallow01.jpg/275px-Red-rumpedSwallow01.jpg" TargetMode="External"/><Relationship Id="rId13" Type="http://schemas.openxmlformats.org/officeDocument/2006/relationships/hyperlink" Target="http://74.ru/_i/sites/74.ru/forum/files/i_6793927_88540_1270619902.jpg" TargetMode="External"/><Relationship Id="rId14" Type="http://schemas.openxmlformats.org/officeDocument/2006/relationships/hyperlink" Target="http://www.catalogmineralov.ru/pic/114032150806.jpg" TargetMode="External"/><Relationship Id="rId15" Type="http://schemas.openxmlformats.org/officeDocument/2006/relationships/hyperlink" Target="http://forum.materinstvo.ru/uploads/1236385780/post-70101-1236449698_thumb.png" TargetMode="External"/><Relationship Id="rId16" Type="http://schemas.openxmlformats.org/officeDocument/2006/relationships/hyperlink" Target="http://venividi.ru/files/img/1356/photo_11.jpg" TargetMode="External"/><Relationship Id="rId17" Type="http://schemas.openxmlformats.org/officeDocument/2006/relationships/hyperlink" Target="http://static.diary.ru/userdir/1/0/0/9/1009809/35987593.jpg" TargetMode="External"/><Relationship Id="rId18" Type="http://schemas.openxmlformats.org/officeDocument/2006/relationships/hyperlink" Target="http://kolyan.net/uploads/forum/images/1257004205.jpg" TargetMode="External"/><Relationship Id="rId19" Type="http://schemas.openxmlformats.org/officeDocument/2006/relationships/hyperlink" Target="http://i074.radikal.ru/0904/7f/90679b8e3791.jpg" TargetMode="External"/><Relationship Id="rId20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qs.org/photo-dict/photofiles/list/360/717duckling.jpg" TargetMode="External"/><Relationship Id="rId3" Type="http://schemas.openxmlformats.org/officeDocument/2006/relationships/hyperlink" Target="http://esto4er.my1.ru/_ph/2/2/46599811.jpg" TargetMode="External"/><Relationship Id="rId4" Type="http://schemas.openxmlformats.org/officeDocument/2006/relationships/hyperlink" Target="http://festival.1september.ru/files/articles/53/5326/532688/8.jpg" TargetMode="External"/><Relationship Id="rId5" Type="http://schemas.openxmlformats.org/officeDocument/2006/relationships/hyperlink" Target="http://www.cka3ka-pro.ru/les/images/les1.gif" TargetMode="External"/><Relationship Id="rId6" Type="http://schemas.openxmlformats.org/officeDocument/2006/relationships/hyperlink" Target="http://shkolazhizni.ru/img/content/i77/77397_or.jpg" TargetMode="External"/><Relationship Id="rId7" Type="http://schemas.openxmlformats.org/officeDocument/2006/relationships/hyperlink" Target="http://www.mega-data.ru/lnp.php?fn=public/news/28/45/360/aks_2.jpg&amp;scale=8" TargetMode="External"/><Relationship Id="rId8" Type="http://schemas.openxmlformats.org/officeDocument/2006/relationships/hyperlink" Target="http://www.buket71.ru/pub/bouquet/73_.jpg" TargetMode="External"/><Relationship Id="rId9" Type="http://schemas.openxmlformats.org/officeDocument/2006/relationships/hyperlink" Target="http://forum.forum.forum.detsad-kitty.ru/uploads/posts/2010-06/1277926078_5e93bbe86706t.jpg" TargetMode="External"/><Relationship Id="rId10" Type="http://schemas.openxmlformats.org/officeDocument/2006/relationships/hyperlink" Target="http://www.100druzei.ru/upload/gallery24/122050/2009_11_05_13_24_07.jpg" TargetMode="External"/><Relationship Id="rId11" Type="http://schemas.openxmlformats.org/officeDocument/2006/relationships/hyperlink" Target="http://www.cio.arcticsu.ru/projects/pr1093/31.jpg" TargetMode="External"/><Relationship Id="rId12" Type="http://schemas.openxmlformats.org/officeDocument/2006/relationships/hyperlink" Target="http://www.vorle.ru/user/pic10865134.jpg" TargetMode="External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Прямоугольник 1" descr=""/>
          <p:cNvPicPr/>
          <p:nvPr/>
        </p:nvPicPr>
        <p:blipFill>
          <a:blip r:embed="rId2"/>
          <a:stretch/>
        </p:blipFill>
        <p:spPr>
          <a:xfrm>
            <a:off x="596880" y="1816200"/>
            <a:ext cx="7864560" cy="2438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Documents and Settings\Admin\Рабочий стол\День знаний 2 класс\443202816.jpg"/>
          <p:cNvPicPr/>
          <p:nvPr/>
        </p:nvPicPr>
        <p:blipFill>
          <a:blip r:embed="rId3"/>
          <a:stretch/>
        </p:blipFill>
        <p:spPr>
          <a:xfrm>
            <a:off x="6715080" y="3643200"/>
            <a:ext cx="1576440" cy="219708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6"/>
          <p:cNvSpPr/>
          <p:nvPr/>
        </p:nvSpPr>
        <p:spPr>
          <a:xfrm>
            <a:off x="7643880" y="3714840"/>
            <a:ext cx="5713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C:\Documents and Settings\Admin\Рабочий стол\День знаний 2 класс\190hbi.jpg"/>
          <p:cNvPicPr/>
          <p:nvPr/>
        </p:nvPicPr>
        <p:blipFill>
          <a:blip r:embed="rId4"/>
          <a:stretch/>
        </p:blipFill>
        <p:spPr>
          <a:xfrm>
            <a:off x="714240" y="3643200"/>
            <a:ext cx="2027520" cy="20718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14"/>
          <p:cNvSpPr/>
          <p:nvPr/>
        </p:nvSpPr>
        <p:spPr>
          <a:xfrm>
            <a:off x="571680" y="4786200"/>
            <a:ext cx="2142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7"/>
          <p:cNvSpPr/>
          <p:nvPr/>
        </p:nvSpPr>
        <p:spPr>
          <a:xfrm>
            <a:off x="2357280" y="5143680"/>
            <a:ext cx="500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571680" y="714240"/>
            <a:ext cx="792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-под ворот видно 8 кошачьих лап. Сколько кошек во двор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C:\Documents and Settings\Admin\Рабочий стол\День знаний 2 класс\109661.jpg"/>
          <p:cNvPicPr/>
          <p:nvPr/>
        </p:nvPicPr>
        <p:blipFill>
          <a:blip r:embed="rId2"/>
          <a:stretch/>
        </p:blipFill>
        <p:spPr>
          <a:xfrm>
            <a:off x="5572080" y="1533600"/>
            <a:ext cx="28576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571680" y="71424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небу летели воробей, ворона, стрекоза, ласточка и шмель. Сколько птиц летел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" descr="C:\Documents and Settings\Admin\Рабочий стол\День знаний 2 класс\800px-Passer_domesticus_m.jpg"/>
          <p:cNvPicPr/>
          <p:nvPr/>
        </p:nvPicPr>
        <p:blipFill>
          <a:blip r:embed="rId2"/>
          <a:stretch/>
        </p:blipFill>
        <p:spPr>
          <a:xfrm>
            <a:off x="3214800" y="3571920"/>
            <a:ext cx="2523960" cy="1855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Documents and Settings\Admin\Рабочий стол\День знаний 2 класс\1143132258_f.jpg"/>
          <p:cNvPicPr/>
          <p:nvPr/>
        </p:nvPicPr>
        <p:blipFill>
          <a:blip r:embed="rId3"/>
          <a:stretch/>
        </p:blipFill>
        <p:spPr>
          <a:xfrm>
            <a:off x="5786280" y="2286000"/>
            <a:ext cx="2665440" cy="347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Documents and Settings\Admin\Рабочий стол\День знаний 2 класс\275px-Red-rumpedSwallow01.jpg"/>
          <p:cNvPicPr/>
          <p:nvPr/>
        </p:nvPicPr>
        <p:blipFill>
          <a:blip r:embed="rId4"/>
          <a:stretch/>
        </p:blipFill>
        <p:spPr>
          <a:xfrm>
            <a:off x="571680" y="2286000"/>
            <a:ext cx="2269800" cy="34084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7"/>
          <p:cNvSpPr/>
          <p:nvPr/>
        </p:nvSpPr>
        <p:spPr>
          <a:xfrm>
            <a:off x="2643120" y="207180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3 п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950040" y="714240"/>
            <a:ext cx="70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яжелее 1 кг ваты или 1 кг желез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C:\Documents and Settings\Admin\Рабочий стол\День знаний 2 класс\i_6793927_88540_1270619902.jpg"/>
          <p:cNvPicPr/>
          <p:nvPr/>
        </p:nvPicPr>
        <p:blipFill>
          <a:blip r:embed="rId2"/>
          <a:stretch/>
        </p:blipFill>
        <p:spPr>
          <a:xfrm>
            <a:off x="928800" y="2500200"/>
            <a:ext cx="1857240" cy="32162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"/>
          <p:cNvSpPr/>
          <p:nvPr/>
        </p:nvSpPr>
        <p:spPr>
          <a:xfrm>
            <a:off x="857160" y="185724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C:\Documents and Settings\Admin\Рабочий стол\День знаний 2 класс\114032150806.jpg"/>
          <p:cNvPicPr/>
          <p:nvPr/>
        </p:nvPicPr>
        <p:blipFill>
          <a:blip r:embed="rId3"/>
          <a:stretch/>
        </p:blipFill>
        <p:spPr>
          <a:xfrm>
            <a:off x="5143680" y="2571840"/>
            <a:ext cx="3071520" cy="30718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5643720" y="200016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3071880" y="3357720"/>
            <a:ext cx="178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871920" y="714240"/>
            <a:ext cx="713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 да я, да мы с тобой. Много ли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928800" y="428616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Arial"/>
              </a:rPr>
              <a:t>Двое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C:\Documents and Settings\Admin\Рабочий стол\День знаний 2 класс\post-70101-1236449698_thumb.png"/>
          <p:cNvPicPr/>
          <p:nvPr/>
        </p:nvPicPr>
        <p:blipFill>
          <a:blip r:embed="rId2"/>
          <a:stretch/>
        </p:blipFill>
        <p:spPr>
          <a:xfrm>
            <a:off x="4429080" y="1679400"/>
            <a:ext cx="38466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500040" y="64296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 самое маленькое двузначное чис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1643040" y="2000160"/>
            <a:ext cx="5572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500040" y="64296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ря гостил в деревне неделю и 2 дня. Сколько дней гостил Боря в деревн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857160" y="2428920"/>
            <a:ext cx="714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1 неделя = 7 дне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7 + 2 = 9 дне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Прямоугольник 3" descr=""/>
          <p:cNvPicPr/>
          <p:nvPr/>
        </p:nvPicPr>
        <p:blipFill>
          <a:blip r:embed="rId2"/>
          <a:stretch/>
        </p:blipFill>
        <p:spPr>
          <a:xfrm>
            <a:off x="-55440" y="1523880"/>
            <a:ext cx="9192960" cy="2597400"/>
          </a:xfrm>
          <a:prstGeom prst="rect">
            <a:avLst/>
          </a:prstGeom>
          <a:ln w="0">
            <a:noFill/>
          </a:ln>
        </p:spPr>
      </p:pic>
      <p:pic>
        <p:nvPicPr>
          <p:cNvPr id="173" name="bells_1.mp3" descr=""/>
          <p:cNvPicPr/>
          <p:nvPr/>
        </p:nvPicPr>
        <p:blipFill>
          <a:blip r:embed="rId3"/>
          <a:stretch/>
        </p:blipFill>
        <p:spPr>
          <a:xfrm>
            <a:off x="864396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9585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785880" y="866160"/>
            <a:ext cx="5857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то в лесу тоннели ро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Из ветвей плотины стр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Зубы – точно топ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Это трудят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C:\Documents and Settings\Admin\Рабочий стол\День знаний 2 класс\photo_11.jpg"/>
          <p:cNvPicPr/>
          <p:nvPr/>
        </p:nvPicPr>
        <p:blipFill>
          <a:blip r:embed="rId2"/>
          <a:stretch/>
        </p:blipFill>
        <p:spPr>
          <a:xfrm>
            <a:off x="3500280" y="2381400"/>
            <a:ext cx="50007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642960" y="723600"/>
            <a:ext cx="528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Что же это за дев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е швея, не мастер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ичего сама не ш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А в иголках круглый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C:\Documents and Settings\Admin\Рабочий стол\День знаний 2 класс\35987593.jpg"/>
          <p:cNvPicPr/>
          <p:nvPr/>
        </p:nvPicPr>
        <p:blipFill>
          <a:blip r:embed="rId2"/>
          <a:stretch/>
        </p:blipFill>
        <p:spPr>
          <a:xfrm>
            <a:off x="4992840" y="1428840"/>
            <a:ext cx="360036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714240" y="861480"/>
            <a:ext cx="46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У родителей и д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ся одежда из мон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Documents and Settings\Admin\Рабочий стол\День знаний 2 класс\1257004205.jpg"/>
          <p:cNvPicPr/>
          <p:nvPr/>
        </p:nvPicPr>
        <p:blipFill>
          <a:blip r:embed="rId2"/>
          <a:stretch/>
        </p:blipFill>
        <p:spPr>
          <a:xfrm>
            <a:off x="3429000" y="2071800"/>
            <a:ext cx="4940280" cy="367956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3"/>
          <p:cNvSpPr/>
          <p:nvPr/>
        </p:nvSpPr>
        <p:spPr>
          <a:xfrm>
            <a:off x="7286760" y="5500800"/>
            <a:ext cx="121428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bells_1.mp3" descr=""/>
          <p:cNvPicPr/>
          <p:nvPr/>
        </p:nvPicPr>
        <p:blipFill>
          <a:blip r:embed="rId2"/>
          <a:stretch/>
        </p:blipFill>
        <p:spPr>
          <a:xfrm>
            <a:off x="8643960" y="59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6" descr=""/>
          <p:cNvPicPr/>
          <p:nvPr/>
        </p:nvPicPr>
        <p:blipFill>
          <a:blip r:embed="rId3"/>
          <a:stretch/>
        </p:blipFill>
        <p:spPr>
          <a:xfrm>
            <a:off x="596880" y="1500120"/>
            <a:ext cx="772488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58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714240" y="8614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Голубой аэроплан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ел на белый одуванч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C:\Documents and Settings\Admin\Рабочий стол\День знаний 2 класс\90679b8e3791.jpg"/>
          <p:cNvPicPr/>
          <p:nvPr/>
        </p:nvPicPr>
        <p:blipFill>
          <a:blip r:embed="rId2"/>
          <a:stretch/>
        </p:blipFill>
        <p:spPr>
          <a:xfrm>
            <a:off x="3571920" y="2071800"/>
            <a:ext cx="490536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642960" y="866160"/>
            <a:ext cx="621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Удивительный ребён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олько вышел из пелё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Может плавать и ныр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ак его родная м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Documents and Settings\Admin\Рабочий стол\День знаний 2 класс\717duckling.jpg"/>
          <p:cNvPicPr/>
          <p:nvPr/>
        </p:nvPicPr>
        <p:blipFill>
          <a:blip r:embed="rId2"/>
          <a:stretch/>
        </p:blipFill>
        <p:spPr>
          <a:xfrm>
            <a:off x="3929040" y="2868480"/>
            <a:ext cx="441972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571680" y="794880"/>
            <a:ext cx="664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Живёт спокойно, не спе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а всякий случай носит щ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д ним, не зная стра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Гуляет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C:\Documents and Settings\Admin\Рабочий стол\День знаний 2 класс\46599811.jpg"/>
          <p:cNvPicPr/>
          <p:nvPr/>
        </p:nvPicPr>
        <p:blipFill>
          <a:blip r:embed="rId2"/>
          <a:stretch/>
        </p:blipFill>
        <p:spPr>
          <a:xfrm>
            <a:off x="4660920" y="2357280"/>
            <a:ext cx="374472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Прямоугольник 3" descr=""/>
          <p:cNvPicPr/>
          <p:nvPr/>
        </p:nvPicPr>
        <p:blipFill>
          <a:blip r:embed="rId2"/>
          <a:stretch/>
        </p:blipFill>
        <p:spPr>
          <a:xfrm>
            <a:off x="66600" y="1596960"/>
            <a:ext cx="8858160" cy="2597040"/>
          </a:xfrm>
          <a:prstGeom prst="rect">
            <a:avLst/>
          </a:prstGeom>
          <a:ln w="0">
            <a:noFill/>
          </a:ln>
        </p:spPr>
      </p:pic>
      <p:pic>
        <p:nvPicPr>
          <p:cNvPr id="188" name="bells_1.mp3" descr=""/>
          <p:cNvPicPr/>
          <p:nvPr/>
        </p:nvPicPr>
        <p:blipFill>
          <a:blip r:embed="rId3"/>
          <a:stretch/>
        </p:blipFill>
        <p:spPr>
          <a:xfrm>
            <a:off x="864396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9585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1087920" y="714240"/>
            <a:ext cx="66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Бедный поп подставил лоб». Ко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" descr="C:\Documents and Settings\Admin\Рабочий стол\День знаний 2 класс\8.jpg"/>
          <p:cNvPicPr/>
          <p:nvPr/>
        </p:nvPicPr>
        <p:blipFill>
          <a:blip r:embed="rId2"/>
          <a:stretch/>
        </p:blipFill>
        <p:spPr>
          <a:xfrm>
            <a:off x="5143680" y="1349280"/>
            <a:ext cx="33224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731160" y="785880"/>
            <a:ext cx="36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лище Бабы Яг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C:\Documents and Settings\Admin\Рабочий стол\День знаний 2 класс\les1.gif"/>
          <p:cNvPicPr/>
          <p:nvPr/>
        </p:nvPicPr>
        <p:blipFill>
          <a:blip r:embed="rId2"/>
          <a:stretch/>
        </p:blipFill>
        <p:spPr>
          <a:xfrm>
            <a:off x="4786200" y="477720"/>
            <a:ext cx="37623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571680" y="71424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из обитателей болот стал женой царевич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Documents and Settings\Admin\Рабочий стол\День знаний 2 класс\77397_or.jpg"/>
          <p:cNvPicPr/>
          <p:nvPr/>
        </p:nvPicPr>
        <p:blipFill>
          <a:blip r:embed="rId2"/>
          <a:stretch/>
        </p:blipFill>
        <p:spPr>
          <a:xfrm>
            <a:off x="2693880" y="1714680"/>
            <a:ext cx="5807160" cy="40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723600" y="78588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потеряла Золушк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Documents and Settings\Admin\Рабочий стол\День знаний 2 класс\lnp.php.jpeg"/>
          <p:cNvPicPr/>
          <p:nvPr/>
        </p:nvPicPr>
        <p:blipFill>
          <a:blip r:embed="rId2"/>
          <a:stretch/>
        </p:blipFill>
        <p:spPr>
          <a:xfrm>
            <a:off x="2806560" y="1500120"/>
            <a:ext cx="562320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1"/>
          <p:cNvSpPr/>
          <p:nvPr/>
        </p:nvSpPr>
        <p:spPr>
          <a:xfrm>
            <a:off x="571680" y="642960"/>
            <a:ext cx="792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цветы собирала падчерица в сказке «Двенадцать месяцев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C:\Documents and Settings\Admin\Рабочий стол\День знаний 2 класс\73_.jpg"/>
          <p:cNvPicPr/>
          <p:nvPr/>
        </p:nvPicPr>
        <p:blipFill>
          <a:blip r:embed="rId2"/>
          <a:stretch/>
        </p:blipFill>
        <p:spPr>
          <a:xfrm>
            <a:off x="3929040" y="1652760"/>
            <a:ext cx="464364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669240" y="714240"/>
            <a:ext cx="654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кла из театра Карабаса Бараба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Documents and Settings\Admin\Рабочий стол\День знаний 2 класс\1277926078_5e93bbe86706t.jpg"/>
          <p:cNvPicPr/>
          <p:nvPr/>
        </p:nvPicPr>
        <p:blipFill>
          <a:blip r:embed="rId2"/>
          <a:stretch/>
        </p:blipFill>
        <p:spPr>
          <a:xfrm>
            <a:off x="4071960" y="1500120"/>
            <a:ext cx="4238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642960" y="794880"/>
            <a:ext cx="5857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тоит весёлый светл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ебят проворных много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ам пишут и счит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исуют и играю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866880" y="3000240"/>
            <a:ext cx="7367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654480" y="714240"/>
            <a:ext cx="53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ёлый человечек-луковк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Documents and Settings\Admin\Рабочий стол\День знаний 2 класс\2009_11_05_13_24_07.jpg"/>
          <p:cNvPicPr/>
          <p:nvPr/>
        </p:nvPicPr>
        <p:blipFill>
          <a:blip r:embed="rId2"/>
          <a:stretch/>
        </p:blipFill>
        <p:spPr>
          <a:xfrm>
            <a:off x="4643280" y="1260360"/>
            <a:ext cx="37864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500040" y="714240"/>
            <a:ext cx="628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рой русской народной сказки, путешествующий на печ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C:\Documents and Settings\Admin\Рабочий стол\День знаний 2 класс\31.jpg"/>
          <p:cNvPicPr/>
          <p:nvPr/>
        </p:nvPicPr>
        <p:blipFill>
          <a:blip r:embed="rId2"/>
          <a:stretch/>
        </p:blipFill>
        <p:spPr>
          <a:xfrm>
            <a:off x="5286240" y="1341360"/>
            <a:ext cx="31813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1"/>
          <p:cNvSpPr/>
          <p:nvPr/>
        </p:nvSpPr>
        <p:spPr>
          <a:xfrm>
            <a:off x="670320" y="642960"/>
            <a:ext cx="671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тальон деревни Простоквашин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C:\Documents and Settings\Admin\Рабочий стол\День знаний 2 класс\pic10865134.jpg"/>
          <p:cNvPicPr/>
          <p:nvPr/>
        </p:nvPicPr>
        <p:blipFill>
          <a:blip r:embed="rId2"/>
          <a:stretch/>
        </p:blipFill>
        <p:spPr>
          <a:xfrm>
            <a:off x="5715000" y="1357200"/>
            <a:ext cx="26431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Прямоугольник 3" descr=""/>
          <p:cNvPicPr/>
          <p:nvPr/>
        </p:nvPicPr>
        <p:blipFill>
          <a:blip r:embed="rId2"/>
          <a:stretch/>
        </p:blipFill>
        <p:spPr>
          <a:xfrm>
            <a:off x="-128520" y="1352520"/>
            <a:ext cx="9351720" cy="2884680"/>
          </a:xfrm>
          <a:prstGeom prst="rect">
            <a:avLst/>
          </a:prstGeom>
          <a:ln w="0">
            <a:noFill/>
          </a:ln>
        </p:spPr>
      </p:pic>
      <p:pic>
        <p:nvPicPr>
          <p:cNvPr id="208" name="bells_1.mp3" descr=""/>
          <p:cNvPicPr/>
          <p:nvPr/>
        </p:nvPicPr>
        <p:blipFill>
          <a:blip r:embed="rId3"/>
          <a:stretch/>
        </p:blipFill>
        <p:spPr>
          <a:xfrm>
            <a:off x="8572680" y="59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9585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3"/>
          <p:cNvSpPr/>
          <p:nvPr/>
        </p:nvSpPr>
        <p:spPr>
          <a:xfrm>
            <a:off x="658440" y="714240"/>
            <a:ext cx="344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фруй слов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НИДА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C:\Documents and Settings\Admin\Рабочий стол\2 класс\День знаний 2 класс\1824640.jpg"/>
          <p:cNvPicPr/>
          <p:nvPr/>
        </p:nvPicPr>
        <p:blipFill>
          <a:blip r:embed="rId2"/>
          <a:stretch/>
        </p:blipFill>
        <p:spPr>
          <a:xfrm>
            <a:off x="3571920" y="2643120"/>
            <a:ext cx="4848120" cy="32050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928800" y="4643280"/>
            <a:ext cx="257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Дива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571680" y="714240"/>
            <a:ext cx="4572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фруй слов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КРООА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C:\Documents and Settings\Admin\Рабочий стол\2 класс\День знаний 2 класс\9093.jpg"/>
          <p:cNvPicPr/>
          <p:nvPr/>
        </p:nvPicPr>
        <p:blipFill>
          <a:blip r:embed="rId2"/>
          <a:stretch/>
        </p:blipFill>
        <p:spPr>
          <a:xfrm>
            <a:off x="3286080" y="2357280"/>
            <a:ext cx="5199120" cy="33861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714240" y="4643280"/>
            <a:ext cx="357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Кор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571680" y="714240"/>
            <a:ext cx="4572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фруй слов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БЯРЕТ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C:\Documents and Settings\Admin\Рабочий стол\2 класс\День знаний 2 класс\image002.jpg"/>
          <p:cNvPicPr/>
          <p:nvPr/>
        </p:nvPicPr>
        <p:blipFill>
          <a:blip r:embed="rId2"/>
          <a:stretch/>
        </p:blipFill>
        <p:spPr>
          <a:xfrm>
            <a:off x="3807000" y="2357280"/>
            <a:ext cx="4622760" cy="34070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3"/>
          <p:cNvSpPr/>
          <p:nvPr/>
        </p:nvSpPr>
        <p:spPr>
          <a:xfrm>
            <a:off x="642960" y="442908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Ястре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571680" y="71892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ставь подходящее по смыслу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руслив как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:\Documents and Settings\Admin\Рабочий стол\2 класс\День знаний 2 класс\19101640_100__Zayac_.jpg"/>
          <p:cNvPicPr/>
          <p:nvPr/>
        </p:nvPicPr>
        <p:blipFill>
          <a:blip r:embed="rId2"/>
          <a:stretch/>
        </p:blipFill>
        <p:spPr>
          <a:xfrm>
            <a:off x="2957400" y="1785960"/>
            <a:ext cx="55674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642960" y="861480"/>
            <a:ext cx="757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ставь подходящее по смыслу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Хитёр как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Documents and Settings\Admin\Рабочий стол\2 класс\День знаний 2 класс\20081005082702.jpg"/>
          <p:cNvPicPr/>
          <p:nvPr/>
        </p:nvPicPr>
        <p:blipFill>
          <a:blip r:embed="rId2"/>
          <a:stretch/>
        </p:blipFill>
        <p:spPr>
          <a:xfrm>
            <a:off x="5214960" y="1428840"/>
            <a:ext cx="32688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642960" y="7902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ставь подходящее по смыслу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Голоден как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C:\Documents and Settings\Admin\Рабочий стол\2 класс\День знаний 2 класс\album_2001154643_5810.jpg"/>
          <p:cNvPicPr/>
          <p:nvPr/>
        </p:nvPicPr>
        <p:blipFill>
          <a:blip r:embed="rId2"/>
          <a:stretch/>
        </p:blipFill>
        <p:spPr>
          <a:xfrm>
            <a:off x="3357720" y="1785960"/>
            <a:ext cx="5067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42960" y="794880"/>
            <a:ext cx="6000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Если ты его отточ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арисуешь всё, что хочеш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олнце, море, горы, пляж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Что же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Documents and Settings\Admin\Рабочий стол\День знаний 2 класс\1228213858_00.jpg"/>
          <p:cNvPicPr/>
          <p:nvPr/>
        </p:nvPicPr>
        <p:blipFill>
          <a:blip r:embed="rId2"/>
          <a:stretch/>
        </p:blipFill>
        <p:spPr>
          <a:xfrm>
            <a:off x="4714920" y="2286000"/>
            <a:ext cx="35240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Прямоугольник 3" descr=""/>
          <p:cNvPicPr/>
          <p:nvPr/>
        </p:nvPicPr>
        <p:blipFill>
          <a:blip r:embed="rId2"/>
          <a:stretch/>
        </p:blipFill>
        <p:spPr>
          <a:xfrm>
            <a:off x="-30240" y="1725480"/>
            <a:ext cx="9161640" cy="2170080"/>
          </a:xfrm>
          <a:prstGeom prst="rect">
            <a:avLst/>
          </a:prstGeom>
          <a:ln w="0">
            <a:noFill/>
          </a:ln>
        </p:spPr>
      </p:pic>
      <p:pic>
        <p:nvPicPr>
          <p:cNvPr id="225" name="bells_1.mp3" descr=""/>
          <p:cNvPicPr/>
          <p:nvPr/>
        </p:nvPicPr>
        <p:blipFill>
          <a:blip r:embed="rId3"/>
          <a:stretch/>
        </p:blipFill>
        <p:spPr>
          <a:xfrm>
            <a:off x="864396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0" dur="9585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1" descr=""/>
          <p:cNvPicPr/>
          <p:nvPr/>
        </p:nvPicPr>
        <p:blipFill>
          <a:blip r:embed="rId2"/>
          <a:stretch/>
        </p:blipFill>
        <p:spPr>
          <a:xfrm>
            <a:off x="596880" y="1816200"/>
            <a:ext cx="7864560" cy="2438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C:\Documents and Settings\Admin\Рабочий стол\День знаний 2 класс\443202816.jpg"/>
          <p:cNvPicPr/>
          <p:nvPr/>
        </p:nvPicPr>
        <p:blipFill>
          <a:blip r:embed="rId3"/>
          <a:stretch/>
        </p:blipFill>
        <p:spPr>
          <a:xfrm>
            <a:off x="6715080" y="3643200"/>
            <a:ext cx="1576440" cy="219708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6"/>
          <p:cNvSpPr/>
          <p:nvPr/>
        </p:nvSpPr>
        <p:spPr>
          <a:xfrm>
            <a:off x="7643880" y="3714840"/>
            <a:ext cx="5713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1" descr="C:\Documents and Settings\Admin\Рабочий стол\День знаний 2 класс\190hbi.jpg"/>
          <p:cNvPicPr/>
          <p:nvPr/>
        </p:nvPicPr>
        <p:blipFill>
          <a:blip r:embed="rId4"/>
          <a:stretch/>
        </p:blipFill>
        <p:spPr>
          <a:xfrm>
            <a:off x="714240" y="3643200"/>
            <a:ext cx="2027520" cy="20718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14"/>
          <p:cNvSpPr/>
          <p:nvPr/>
        </p:nvSpPr>
        <p:spPr>
          <a:xfrm>
            <a:off x="571680" y="4786200"/>
            <a:ext cx="2142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7"/>
          <p:cNvSpPr/>
          <p:nvPr/>
        </p:nvSpPr>
        <p:spPr>
          <a:xfrm>
            <a:off x="2357280" y="5143680"/>
            <a:ext cx="500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bells_1.mp3" descr=""/>
          <p:cNvPicPr/>
          <p:nvPr/>
        </p:nvPicPr>
        <p:blipFill>
          <a:blip r:embed="rId5"/>
          <a:stretch/>
        </p:blipFill>
        <p:spPr>
          <a:xfrm>
            <a:off x="864396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9585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ованные ресур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857160"/>
            <a:ext cx="804384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йк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13day.ucoz.ru/_ph/5/2/443202816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ишка с зайцем читают букварь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retropost.ru/i/1september/190hbi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рандаш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eb-drawing.ru/uploads/posts/2008-12/1228213858_00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нал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interoffice.com.ua/download.php?id=389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ртфель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ai-cdr.ucoz.ru/kartinki_2/shkolportfel.g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традь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img.samsonopt.ru/x/102257_x.p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уквы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viki.rdf.ru/media/upload/preview/poem_glasnie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шк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famtoys.ru/files/goods/109661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робей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upload.wikimedia.org/wikipedia/commons/thumb/9/91/Passer_domesticus_m.jpg/800px-Passer_domesticus_m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рон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flamber.ru/files/photos/1143131871/1143132258_f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асточк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upload.wikimedia.org/wikipedia/commons/thumb/0/0f/Red-rumpedSwallow01.jpg/275px-Red-rumpedSwallow01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т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74.ru/_i/sites/74.ru/forum/files/i_6793927_88540_1270619902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Железо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catalogmineralov.ru/pic/114032150806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ник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forum.materinstvo.ru/uploads/1236385780/post-70101-1236449698_thumb.p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обры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venividi.ru/files/img/1356/photo_11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Ёлк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static.diary.ru/userdir/1/0/0/9/1009809/35987593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ыб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kolyan.net/uploads/forum/images/1257004205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рекоз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http://i074.radikal.ru/0904/7f/90679b8e3791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500040" y="571680"/>
            <a:ext cx="80010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ёнок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faqs.org/photo-dict/photofiles/list/360/717ducklin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пах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esto4er.my1.ru/_ph/2/2/4659981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ллюстрация из сказки А. С. Пушкина «Сказка о попе и работнике его Балде»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festival.1september.ru/files/articles/53/5326/532688/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бушка на курьих ножках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cka3ka-pro.ru/les/images/les1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ягушка из сказк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shkolazhizni.ru/img/content/i77/77397_or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рустальная туфельк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www.mega-data.ru/lnp.php?fn=public/news/28/45/360/aks_2.jpg&amp;scale=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снежник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buket71.ru/pub/bouquet/73_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львин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forum.forum.forum.detsad-kitty.ru/uploads/posts/2010-06/1277926078_5e93bbe86706t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поллино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www.100druzei.ru/upload/gallery24/122050/2009_11_05_13_24_0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меля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www.cio.arcticsu.ru/projects/pr1093/3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тальон Печкин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http://www.vorle.ru/user/pic10865134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ван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www.render.ru/forum/images/upload/182464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ов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art5.karelia.ru/photo/16/161/909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стреб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birds-kg.narod.ru/yastreb.files/image00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яц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img0.liveinternet.ru/images/attach/b/3/19/101/19101640_100__Zayac_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с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whi.s3.leg.entries.lg1x8.simplecdn.net/2008100508270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лк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ns.sitecity.ru/users/w/wwolf/storage/album_2001154643_581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 - собственное фо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5"/>
          <p:cNvSpPr/>
          <p:nvPr/>
        </p:nvSpPr>
        <p:spPr>
          <a:xfrm>
            <a:off x="500040" y="4429080"/>
            <a:ext cx="792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500040" y="5217120"/>
            <a:ext cx="92156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Calibri"/>
              </a:rPr>
              <a:t>Звук колокольчика  http://mobilemax.ru/down/open/20683/zvuk-kolokolchikov.ht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Calibri"/>
              </a:rPr>
              <a:t>Шаблон для презентации  -авторск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571680" y="937800"/>
            <a:ext cx="671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 этой узенькой короб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ы найдёшь каранда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учки, перья, скрепки, кноп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Что угодно для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C:\Documents and Settings\Admin\Рабочий стол\День знаний 2 класс\5394504.jpg"/>
          <p:cNvPicPr/>
          <p:nvPr/>
        </p:nvPicPr>
        <p:blipFill>
          <a:blip r:embed="rId2"/>
          <a:stretch/>
        </p:blipFill>
        <p:spPr>
          <a:xfrm>
            <a:off x="5857920" y="2428920"/>
            <a:ext cx="25495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714240" y="866160"/>
            <a:ext cx="5143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овый дом несу в ру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Дверца дома на зам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ут жильцы бумаж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се ужасно важ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C:\Documents and Settings\Admin\Рабочий стол\День знаний 2 класс\shkolportfel.gif"/>
          <p:cNvPicPr/>
          <p:nvPr/>
        </p:nvPicPr>
        <p:blipFill>
          <a:blip r:embed="rId2"/>
          <a:stretch/>
        </p:blipFill>
        <p:spPr>
          <a:xfrm>
            <a:off x="4683240" y="2286000"/>
            <a:ext cx="35319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642960" y="866160"/>
            <a:ext cx="6286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о я в клетку, то в линей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аписать во мне сумей-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Можешь и нарисо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Что такое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C:\Documents and Settings\Admin\Рабочий стол\День знаний 2 класс\102257_x.png"/>
          <p:cNvPicPr/>
          <p:nvPr/>
        </p:nvPicPr>
        <p:blipFill>
          <a:blip r:embed="rId2"/>
          <a:stretch/>
        </p:blipFill>
        <p:spPr>
          <a:xfrm>
            <a:off x="4786200" y="200016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642960" y="93312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Чёрные, кривые, от рождения не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станут в ряд – все загово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Documents and Settings\Admin\Рабочий стол\День знаний 2 класс\poem_glasnie.jpg"/>
          <p:cNvPicPr/>
          <p:nvPr/>
        </p:nvPicPr>
        <p:blipFill>
          <a:blip r:embed="rId2"/>
          <a:stretch/>
        </p:blipFill>
        <p:spPr>
          <a:xfrm>
            <a:off x="3500280" y="2071800"/>
            <a:ext cx="4886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Прямоугольник 3" descr=""/>
          <p:cNvPicPr/>
          <p:nvPr/>
        </p:nvPicPr>
        <p:blipFill>
          <a:blip r:embed="rId2"/>
          <a:stretch/>
        </p:blipFill>
        <p:spPr>
          <a:xfrm>
            <a:off x="-96840" y="1395360"/>
            <a:ext cx="9264600" cy="3157560"/>
          </a:xfrm>
          <a:prstGeom prst="rect">
            <a:avLst/>
          </a:prstGeom>
          <a:ln w="0">
            <a:noFill/>
          </a:ln>
        </p:spPr>
      </p:pic>
      <p:pic>
        <p:nvPicPr>
          <p:cNvPr id="151" name="bells_1.mp3" descr=""/>
          <p:cNvPicPr/>
          <p:nvPr/>
        </p:nvPicPr>
        <p:blipFill>
          <a:blip r:embed="rId3"/>
          <a:stretch/>
        </p:blipFill>
        <p:spPr>
          <a:xfrm>
            <a:off x="864396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9585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2:03:01Z</dcterms:created>
  <dc:creator>Admin</dc:creator>
  <dc:description/>
  <dc:language>en-US</dc:language>
  <cp:lastModifiedBy>Admin</cp:lastModifiedBy>
  <dcterms:modified xsi:type="dcterms:W3CDTF">2016-05-01T19:59:20Z</dcterms:modified>
  <cp:revision>47</cp:revision>
  <dc:subject/>
  <dc:title>Слайд 1</dc:title>
</cp:coreProperties>
</file>